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wmf" ContentType="image/x-wmf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jpeg" ContentType="image/jpeg"/>
  <Override PartName="/ppt/media/image13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F098-23A8-416B-81D9-F646671E16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23B6-CE41-431C-8759-34A62FAAE77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E280-DE96-45E3-A7C7-1EBAF532751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666-6BF6-4F66-A645-12CBD772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513-A130-4BC7-916B-49E24ED4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ABB7D-9443-4196-B549-818D6FF7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A2122-8E72-4445-B6F0-82A59A75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8BB2F-D558-4B01-83EA-6F84D7B1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507A2-1B2C-4A2E-85AF-0AF72976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FEC6F-A959-4B6F-B33E-63C203A9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1CE93-C873-43CC-AC3D-E0049400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DE28C-B1F6-42B4-A9C6-92D2A252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67914-EF9B-4D86-8AD6-3AFF8E7F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40A9-9907-40E3-B4D4-1988DAA1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7B897-ADE2-42A6-8AF6-D3B4970C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92C-A714-4132-8E54-87CFC40D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C67B6-E852-4207-918D-0821C8EC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FBE75-8DA8-44E0-9951-B5C10FB0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860CE-EA85-4272-8643-181C45DD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1FA61-3094-43E9-B3B1-18F4AC57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745D9-7A69-4C00-8244-FE11680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B983D-5CBF-4B1A-8A76-6C6299D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D10DA-8B13-4938-8F3C-431CC770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093C9-9B60-432A-AE4A-6971B632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10313-90BD-47DC-BCAA-CC7D0A59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DAAB4-D6F4-4C1C-8B38-9237314D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A27-E049-447E-8430-4D7311D4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4C24B-E5AC-45B5-8EC2-00AC7942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C720A-126C-44E8-817A-25FBF351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B8EA9-AC0F-4B3D-82E5-A3AD820B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2CF19-F6C1-4F67-9CC6-514C488B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04D20-E7AB-4FE9-9166-EF4F0ED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DBDAB-16AD-4C76-8976-08C5F3EF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A03B5-63A9-46C5-A76E-56A768CD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FE647-5A6D-474E-906F-9F7017B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F8CA3-4337-4E75-9C6F-AC3653C7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39EE6-A4E0-4570-8B41-464BF98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4222-1DBB-44F6-AD82-816FBF20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DB81C-70A5-4E6C-922B-078F1581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B108D-0B92-43BE-A449-98634E49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BADA4-B608-4B87-BA60-989D0E0F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FDB12-F320-4D57-A253-C54FCCF5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66726-46DA-43EA-87AF-FEA34F8D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555B2-A0B2-4394-B77C-40C0BB9A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55068-42B0-4CCC-B181-4832AC8E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09906-D1F0-43A8-AC4F-F2381680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0798D-0473-458E-B9BF-0C31AB40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EEA37-5D6A-4555-94B0-D04A9AC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0B43-A4DF-40D0-96F3-17AD6357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8873F-5F78-46E4-AD23-9AA209B0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A4B17-9FFF-4384-A2DA-A566E23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CF864-D2AA-4E41-8F2B-8F0BA8C7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EF00E-7079-439F-A928-EBB7951A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52CBB-79DD-485F-9470-1D1E9D19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A98D-5ED5-4C4F-9960-20B0D1D4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F686-91D6-4971-A953-40C92BCB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7A58-8676-49B0-B7F1-419A5F47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4418-3D61-42F2-933D-CC07277F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624F-C288-4B4E-BF3F-EEA0EF1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D2B-1672-4370-BAF7-4F92B7A4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75F1-E5CB-477D-9EE8-489D9C59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95AD-579A-42BC-A245-02E1767F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EB3A-4317-4E16-B4F3-078CF71A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6B20-6AE3-4AC9-9033-241E2A91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3F09-6A01-4DE5-81E3-4B45ACA2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20817-3D2B-4AAD-B26E-A5E403DF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3FA9-911C-43E0-B819-D3B59140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EB5F-BCF1-4131-BC3F-9BEB431F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80CF-38DE-4D90-BF7E-FBD26F5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D361-909D-42C8-8165-6D566234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F44-55E8-4304-8A43-001B5C1A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4546-6DC0-4BB6-8670-34EE0AF7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2E66-C66E-4FC3-B9FF-DB6187CD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B9CB-E1F1-4C42-843A-2F618437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EB002-1A55-4FF7-A0AD-AF2AC508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4228-B3E7-4629-A926-BF1A1212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6EE1-75DB-4ABD-9B01-16BBD45B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52A3-42A8-47D5-AE7D-8AA20E17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CAAD-CE15-4E0C-94FD-2682C952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B329-8E3B-4ECB-ADA5-E1AF4502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3B613-8E2A-44D3-8536-76F0BBDF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AFE-8A66-4939-BC48-A652413B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6497A-26E8-4EBD-BA9C-AD34F0E9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1B92D-6BB8-4BCF-BFF4-EE1AEF53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340D5-E369-4000-8871-80C2E722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6B11-7F5A-4B45-8A57-61F4781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6C95-C28A-4BD8-B00E-859A1A2F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4D0A-1C9C-47B7-ABE6-7527DB61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3131-3D05-4669-9AED-E1786ED2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AD6D-5D31-49E1-B205-2814CCF1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8D172-85EB-4463-8036-F31C2514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DE7E-27CB-4ADB-B0A3-F27634E4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163-E3AF-4260-ABDD-A284DB7F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299BA-9721-45B4-8E13-B6DA267D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B4EA6-DF8E-4AD9-BC2A-96E83C48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B11D3-6055-4B14-9205-31E7B081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99DA1-3C6F-4A7F-A3E4-A63D1034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D6DD1-B774-4F7B-BD6A-C1D5B340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E69B-6245-4C94-96A6-5C3870FC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ADF93-4E7C-4A5A-A2BE-2513068A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157E6-1012-4E7E-9681-DFA48405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3336-EBCB-49B6-B81A-975DC0B5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88DD5-BF6C-4289-80FD-64BD2ABA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593-1626-493B-AA99-B5F7DF83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BBF95-5D06-47D5-9F0A-4CEFC8D9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60964-CD87-41C3-A329-5F3DF597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0C7B6-87FC-43CB-BBD0-C0ABC588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E741C-F156-474D-B50B-AF1792D2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A2527-0B94-4139-877D-F442AF5C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2C9E1-0BA5-493D-9D97-CFC39CC8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0FEB-7EAA-412C-8162-51FF918C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F14CA-C359-4C23-9DF6-5CE26B7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AEA41-11D4-43D0-949E-9FEFF5E1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6680-43C8-499B-8551-88AA982C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629-391C-44D5-9419-6CC07150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29447-6332-4AC2-85BF-95F23113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E008-F985-45DC-BB48-2ADBD45C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5737E-5C1E-463E-90F4-968D576A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DBBD-595E-4625-8430-8433625C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6C879-8279-4059-BF59-A6C75AA2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0590F-743F-47F1-A1AC-EE68933E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CE75B-7705-4A2C-9476-1A882E0F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CFB25-377F-4DA5-A0C4-34A00609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A3A24-894C-41F9-9B86-5233462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6186E-1D39-4F0C-BFB5-F7DBBB0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1B1-13CA-4B31-A518-AE68530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1DBE4-DA35-4FEF-84CE-6244451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C927D-FE73-43C9-A434-BF61036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44463-2C36-4B1C-B7BE-1601ED86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94675-8BB8-4701-8C15-8998DA1A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DA525-C49F-4836-9EE6-48C4D052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61E03-F595-45D8-9679-81EAF729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7B36E-7DE1-47FA-8D26-A2440BEE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A56A4-4E32-4527-BB6C-DF68D385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74319-0F24-40F1-B58F-5721207A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B5AF-23AB-4C80-A539-22B3B621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91A-E225-46A1-B492-37F68970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046BB-E925-495F-B491-E9CCE588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F766-DE8D-4A48-927F-95A4DA92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13235-8A8D-4584-9C7F-4A8CA01A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1BCD9-DA58-4719-B3AB-AC31E546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36AD3-0D80-468E-8072-07B61073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20999-7980-4B0B-96F5-F0D66D05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A123F-569B-4572-8584-81EBC09C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DFB6D-25BA-4E8A-81B5-4AD49D32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D1C70-87B1-4078-869B-850CB98B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15605-CFD9-4DB4-84B2-8154F34E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AC58-F172-4991-8513-13E8E7535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0DA3-F4AB-4EA8-A938-4B6EC8EFA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398A-4EAB-4A3C-85C5-41FE53146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0935-D298-4552-A592-18297898DBA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140A-7211-49BF-9531-CAF2358E0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AB1F-B16E-45F4-9830-ED4FE1161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370C-8731-4E26-98A9-97DC781AB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8B7E-05ED-4DD6-A633-2110C72BD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19BF-FC43-4324-B9E7-43AA96A915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F9B1-486F-45C0-A910-2148561F0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301D-5421-4911-A6E7-6B798C47E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190C-AB73-49FF-9F3A-C2606E340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57DC-3CC1-4E15-A2B4-C6BF4C8177C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563640" y="2707920"/>
            <a:ext cx="525780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ahoma"/>
              </a:rPr>
              <a:t>O </a:t>
            </a:r>
            <a:r>
              <a:rPr b="0" lang="pt-PT" sz="3600" spc="-1" strike="noStrike" u="sng">
                <a:solidFill>
                  <a:srgbClr val="000000"/>
                </a:solidFill>
                <a:uFillTx/>
                <a:latin typeface="Tahoma"/>
              </a:rPr>
              <a:t>Sistema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pt-PT" sz="3600" spc="-1" strike="noStrike" u="sng">
                <a:solidFill>
                  <a:srgbClr val="000000"/>
                </a:solidFill>
                <a:uFillTx/>
                <a:latin typeface="Tahoma"/>
              </a:rPr>
              <a:t>Digestivo no Homem</a:t>
            </a:r>
            <a:endParaRPr b="0" lang="en-US" sz="3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2987640" y="6165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ências da Natureza 6º 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3654-D0B3-4C46-B2F2-DBD6C303238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33"/>
                </a:solidFill>
                <a:latin typeface="Tahoma"/>
              </a:rPr>
              <a:t>No estômago…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Picture 7" descr="estomago_1"/>
          <p:cNvPicPr/>
          <p:nvPr/>
        </p:nvPicPr>
        <p:blipFill>
          <a:blip r:embed="rId1"/>
          <a:stretch/>
        </p:blipFill>
        <p:spPr>
          <a:xfrm>
            <a:off x="468360" y="1557360"/>
            <a:ext cx="2663640" cy="26636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8"/>
          <p:cNvSpPr/>
          <p:nvPr/>
        </p:nvSpPr>
        <p:spPr>
          <a:xfrm>
            <a:off x="3635280" y="1557360"/>
            <a:ext cx="550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Os movimentos peristál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co gást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AutoShape 9"/>
          <p:cNvSpPr/>
          <p:nvPr/>
        </p:nvSpPr>
        <p:spPr>
          <a:xfrm>
            <a:off x="6156360" y="465300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4140360" y="580536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00"/>
                </a:solidFill>
                <a:latin typeface="Times New Roman"/>
              </a:rPr>
              <a:t>Quim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3995640" y="3860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transformam o bolo alimen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665964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3 h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22" descr="Estomago"/>
          <p:cNvPicPr/>
          <p:nvPr/>
        </p:nvPicPr>
        <p:blipFill>
          <a:blip r:embed="rId2"/>
          <a:stretch/>
        </p:blipFill>
        <p:spPr>
          <a:xfrm>
            <a:off x="468360" y="4365720"/>
            <a:ext cx="26636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E2BA-AF9E-4FDB-B96D-0FC113BEA4C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33"/>
                </a:solidFill>
                <a:latin typeface="Tahoma"/>
              </a:rPr>
              <a:t>No intestino delgado…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81" name="Picture 4" descr="Digestion"/>
          <p:cNvPicPr/>
          <p:nvPr/>
        </p:nvPicPr>
        <p:blipFill>
          <a:blip r:embed="rId1"/>
          <a:stretch/>
        </p:blipFill>
        <p:spPr>
          <a:xfrm>
            <a:off x="179280" y="2133720"/>
            <a:ext cx="2903760" cy="32464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"/>
          <p:cNvSpPr/>
          <p:nvPr/>
        </p:nvSpPr>
        <p:spPr>
          <a:xfrm>
            <a:off x="179280" y="544500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 Quimo sai do estômago e entra no intestino del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780000" y="1989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 fígado produz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bí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Line 8"/>
          <p:cNvSpPr/>
          <p:nvPr/>
        </p:nvSpPr>
        <p:spPr>
          <a:xfrm flipV="1">
            <a:off x="2124000" y="2204640"/>
            <a:ext cx="2592360" cy="36036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9"/>
          <p:cNvSpPr/>
          <p:nvPr/>
        </p:nvSpPr>
        <p:spPr>
          <a:xfrm flipV="1">
            <a:off x="1476360" y="2445840"/>
            <a:ext cx="5472000" cy="62244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10"/>
          <p:cNvSpPr/>
          <p:nvPr/>
        </p:nvSpPr>
        <p:spPr>
          <a:xfrm>
            <a:off x="1835280" y="3860640"/>
            <a:ext cx="2616120" cy="972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3851280" y="3645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 pâncreas segrega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co pancre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1258920" y="3860640"/>
            <a:ext cx="4105080" cy="43200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826920" y="4653000"/>
            <a:ext cx="2700360" cy="43164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5580000" y="2717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5570640" y="44672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2484360" y="494172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co intest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4067280" y="5373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3203640" y="59500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AutoShape 19"/>
          <p:cNvSpPr/>
          <p:nvPr/>
        </p:nvSpPr>
        <p:spPr>
          <a:xfrm rot="16200000">
            <a:off x="5795640" y="522864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20"/>
          <p:cNvSpPr/>
          <p:nvPr/>
        </p:nvSpPr>
        <p:spPr>
          <a:xfrm>
            <a:off x="6516720" y="5300640"/>
            <a:ext cx="24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il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CDAC-C50D-4910-AC83-F9E349C958F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O que acontece no intestino delgado?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99" name="Picture 4" descr="intestedelgado"/>
          <p:cNvPicPr/>
          <p:nvPr/>
        </p:nvPicPr>
        <p:blipFill>
          <a:blip r:embed="rId1"/>
          <a:stretch/>
        </p:blipFill>
        <p:spPr>
          <a:xfrm>
            <a:off x="250920" y="1916280"/>
            <a:ext cx="3816360" cy="335268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5"/>
          <p:cNvSpPr/>
          <p:nvPr/>
        </p:nvSpPr>
        <p:spPr>
          <a:xfrm>
            <a:off x="324000" y="5589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Vilosidades intesti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6"/>
          <p:cNvSpPr/>
          <p:nvPr/>
        </p:nvSpPr>
        <p:spPr>
          <a:xfrm flipV="1">
            <a:off x="1979640" y="2060640"/>
            <a:ext cx="2736720" cy="122400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4500720" y="1628640"/>
            <a:ext cx="4248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losidades intestinais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  são saliências em forma de lu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qui são absorvidos os nutrientes simples que constituem o qui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8"/>
          <p:cNvSpPr/>
          <p:nvPr/>
        </p:nvSpPr>
        <p:spPr>
          <a:xfrm>
            <a:off x="6227640" y="393372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4859280" y="515772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 u="sng">
                <a:solidFill>
                  <a:srgbClr val="000000"/>
                </a:solidFill>
                <a:uFillTx/>
                <a:latin typeface="Times New Roman"/>
              </a:rPr>
              <a:t>Sangu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694836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sor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E959-1B5E-44C1-9495-B654385C502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O que acontece no intestino delgado?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179280" y="417528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Durante a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Times New Roman"/>
              </a:rPr>
              <a:t>absorção 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os nutrientes atravessam as paredes das vilosidades intestinais e entram na corrente sanguínea, para serem distribuídos por todas as células do organism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7"/>
          <p:cNvSpPr/>
          <p:nvPr/>
        </p:nvSpPr>
        <p:spPr>
          <a:xfrm>
            <a:off x="3708360" y="515772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Picture 10" descr="Digitalizar0005 re"/>
          <p:cNvPicPr/>
          <p:nvPr/>
        </p:nvPicPr>
        <p:blipFill>
          <a:blip r:embed="rId1"/>
          <a:srcRect l="0" t="13634" r="0" b="0"/>
          <a:stretch/>
        </p:blipFill>
        <p:spPr>
          <a:xfrm>
            <a:off x="1619280" y="1379520"/>
            <a:ext cx="5334120" cy="28414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11"/>
          <p:cNvSpPr/>
          <p:nvPr/>
        </p:nvSpPr>
        <p:spPr>
          <a:xfrm>
            <a:off x="421164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imi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24000" y="57340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Quando chegam às células, os nutrientes, são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similados</a:t>
            </a: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, ou seja, são transformados pelas células na sua própria matéria e fornecem energ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CED7-3D70-418C-8031-48768AC960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33"/>
                </a:solidFill>
                <a:latin typeface="Tahoma"/>
              </a:rPr>
              <a:t>No intestino grosso…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5" name="Picture 5" descr="intestgrosso_2"/>
          <p:cNvPicPr/>
          <p:nvPr/>
        </p:nvPicPr>
        <p:blipFill>
          <a:blip r:embed="rId1"/>
          <a:stretch/>
        </p:blipFill>
        <p:spPr>
          <a:xfrm>
            <a:off x="0" y="1341360"/>
            <a:ext cx="2844720" cy="5112000"/>
          </a:xfrm>
          <a:prstGeom prst="rect">
            <a:avLst/>
          </a:prstGeom>
          <a:ln w="0">
            <a:noFill/>
          </a:ln>
        </p:spPr>
      </p:pic>
      <p:sp>
        <p:nvSpPr>
          <p:cNvPr id="616" name="Line 17"/>
          <p:cNvSpPr/>
          <p:nvPr/>
        </p:nvSpPr>
        <p:spPr>
          <a:xfrm flipV="1">
            <a:off x="324000" y="2781000"/>
            <a:ext cx="3311280" cy="2087640"/>
          </a:xfrm>
          <a:prstGeom prst="line">
            <a:avLst/>
          </a:prstGeom>
          <a:ln cap="sq" w="50760">
            <a:solidFill>
              <a:srgbClr val="c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3708360" y="1557360"/>
            <a:ext cx="511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As substâncias que não foram absorvidas passam para o intestino grosso. Neste ocorrem as últimas etapas da digestão. Grande parte da água, que ainda existia no Quilo, é absorvida para a corrente sanguí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Line 21"/>
          <p:cNvSpPr/>
          <p:nvPr/>
        </p:nvSpPr>
        <p:spPr>
          <a:xfrm flipV="1">
            <a:off x="2556000" y="4300560"/>
            <a:ext cx="1079280" cy="928800"/>
          </a:xfrm>
          <a:prstGeom prst="line">
            <a:avLst/>
          </a:prstGeom>
          <a:ln cap="sq" w="50760">
            <a:solidFill>
              <a:srgbClr val="c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24"/>
          <p:cNvSpPr/>
          <p:nvPr/>
        </p:nvSpPr>
        <p:spPr>
          <a:xfrm>
            <a:off x="3708360" y="3645000"/>
            <a:ext cx="51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No intestino grosso, vivem bactérias que são responsáveis pela formação de vitaminas, como a vitamina K. As bactérias encarregam-se da degradação final do Qui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AutoShape 26"/>
          <p:cNvSpPr/>
          <p:nvPr/>
        </p:nvSpPr>
        <p:spPr>
          <a:xfrm>
            <a:off x="5940360" y="501336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4932360" y="5661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z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DBF4-2E28-4814-9551-671242AD986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33"/>
                </a:solidFill>
                <a:latin typeface="Tahoma"/>
              </a:rPr>
              <a:t>No intestino grosso…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24" name="Picture 4" descr="colon"/>
          <p:cNvPicPr/>
          <p:nvPr/>
        </p:nvPicPr>
        <p:blipFill>
          <a:blip r:embed="rId1"/>
          <a:stretch/>
        </p:blipFill>
        <p:spPr>
          <a:xfrm>
            <a:off x="39528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5"/>
          <p:cNvSpPr/>
          <p:nvPr/>
        </p:nvSpPr>
        <p:spPr>
          <a:xfrm>
            <a:off x="5003640" y="2565360"/>
            <a:ext cx="37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s fezes vão sendo “empurradas”, devido aos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vimentos peristálticos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 do intestino grosso, para o reto, sendo finalmente expulsas para o exterior através do ân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9F62-DD1B-4321-9ABF-43DE044DAF5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2195640" y="3284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omo vêm o Sistema Digestivo Humano é muito simples, tem é que se saber cuidar bem dele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WordArt 8"/>
          <p:cNvSpPr txBox="1"/>
          <p:nvPr/>
        </p:nvSpPr>
        <p:spPr>
          <a:xfrm>
            <a:off x="3492360" y="260280"/>
            <a:ext cx="280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im</a:t>
            </a:r>
            <a:endParaRPr b="0" lang="en-US" sz="24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9" name="Picture 10" descr="MCj04375550000[1]"/>
          <p:cNvPicPr/>
          <p:nvPr/>
        </p:nvPicPr>
        <p:blipFill>
          <a:blip r:embed="rId1"/>
          <a:stretch/>
        </p:blipFill>
        <p:spPr>
          <a:xfrm>
            <a:off x="179280" y="3141720"/>
            <a:ext cx="1866960" cy="159696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2"/>
          <p:cNvSpPr/>
          <p:nvPr/>
        </p:nvSpPr>
        <p:spPr>
          <a:xfrm>
            <a:off x="57240" y="6404040"/>
            <a:ext cx="46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333333"/>
                </a:solidFill>
                <a:latin typeface="Times New Roman"/>
              </a:rPr>
              <a:t>Docentes: </a:t>
            </a:r>
            <a:r>
              <a:rPr b="0" lang="pt-PT" sz="1800" spc="-1" strike="noStrike">
                <a:solidFill>
                  <a:srgbClr val="333333"/>
                </a:solidFill>
                <a:latin typeface="Times New Roman"/>
              </a:rPr>
              <a:t>Constança Pinto e Mariana Casano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Picture 13" descr="MCj04375730000[1]"/>
          <p:cNvPicPr/>
          <p:nvPr/>
        </p:nvPicPr>
        <p:blipFill>
          <a:blip r:embed="rId2"/>
          <a:stretch/>
        </p:blipFill>
        <p:spPr>
          <a:xfrm>
            <a:off x="7397640" y="1844640"/>
            <a:ext cx="17463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021D-A539-4AA7-BD1D-2FDB36ED27F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O que acontece aos nutrientes depois de ingeridos?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24000" y="1700280"/>
            <a:ext cx="842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 todas as refeições devemos comer vários tipos d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trientes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íc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íp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óti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er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Á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tamin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b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AutoShape 9"/>
          <p:cNvSpPr/>
          <p:nvPr/>
        </p:nvSpPr>
        <p:spPr>
          <a:xfrm rot="10800000">
            <a:off x="1727280" y="2286000"/>
            <a:ext cx="288720" cy="3960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9"/>
                </a:lnTo>
                <a:cubicBezTo>
                  <a:pt x="10800" y="9799"/>
                  <a:pt x="5400" y="10699"/>
                  <a:pt x="0" y="10699"/>
                </a:cubicBezTo>
                <a:cubicBezTo>
                  <a:pt x="5400" y="10699"/>
                  <a:pt x="10800" y="11599"/>
                  <a:pt x="10800" y="124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1979640" y="3213000"/>
            <a:ext cx="691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tes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trientes</a:t>
            </a:r>
            <a:r>
              <a:rPr b="0" lang="pt-PT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a chegarem às células do nosso organismo precisam de ser transform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te conjunto de transformações designa-se 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gestão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2340000" y="56610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É uma função do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stema Diges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AutoShape 15"/>
          <p:cNvSpPr/>
          <p:nvPr/>
        </p:nvSpPr>
        <p:spPr>
          <a:xfrm>
            <a:off x="4572000" y="479736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2F1D-8978-44B1-BE94-CA07FCB911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33"/>
                </a:solidFill>
                <a:latin typeface="Tahoma"/>
              </a:rPr>
              <a:t>Como é constituído o Sistema Digestivo do Homem?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Text Box 28"/>
          <p:cNvSpPr/>
          <p:nvPr/>
        </p:nvSpPr>
        <p:spPr>
          <a:xfrm>
            <a:off x="1258920" y="1700280"/>
            <a:ext cx="738036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PT" sz="3600" spc="-1" strike="noStrike" u="sng">
                <a:solidFill>
                  <a:srgbClr val="000000"/>
                </a:solidFill>
                <a:uFillTx/>
                <a:latin typeface="Times New Roman"/>
              </a:rPr>
              <a:t>Sistema digestivo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3600" spc="-1" strike="noStrike">
                <a:solidFill>
                  <a:srgbClr val="000000"/>
                </a:solidFill>
                <a:latin typeface="Times New Roman"/>
              </a:rPr>
              <a:t>humano é constituído pel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Tubo digestiv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Glândulas anex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F761-D6A5-449F-98CB-AD36572C41D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Tahoma"/>
              </a:rPr>
              <a:t>Tubo digestivo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14" name="Picture 3" descr="digestivo_2"/>
          <p:cNvPicPr/>
          <p:nvPr/>
        </p:nvPicPr>
        <p:blipFill>
          <a:blip r:embed="rId1"/>
          <a:stretch/>
        </p:blipFill>
        <p:spPr>
          <a:xfrm>
            <a:off x="0" y="1413000"/>
            <a:ext cx="3500280" cy="5445000"/>
          </a:xfrm>
          <a:prstGeom prst="rect">
            <a:avLst/>
          </a:prstGeom>
          <a:ln w="0">
            <a:noFill/>
          </a:ln>
        </p:spPr>
      </p:pic>
      <p:sp>
        <p:nvSpPr>
          <p:cNvPr id="515" name="Line 4"/>
          <p:cNvSpPr/>
          <p:nvPr/>
        </p:nvSpPr>
        <p:spPr>
          <a:xfrm>
            <a:off x="2484360" y="2349360"/>
            <a:ext cx="1582920" cy="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5"/>
          <p:cNvSpPr/>
          <p:nvPr/>
        </p:nvSpPr>
        <p:spPr>
          <a:xfrm>
            <a:off x="1763640" y="3284640"/>
            <a:ext cx="158292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1187280" y="6021360"/>
            <a:ext cx="352908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7"/>
          <p:cNvSpPr/>
          <p:nvPr/>
        </p:nvSpPr>
        <p:spPr>
          <a:xfrm>
            <a:off x="1979640" y="5589720"/>
            <a:ext cx="158256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2379600" y="4668840"/>
            <a:ext cx="158292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1619280" y="6491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979640" y="6669000"/>
            <a:ext cx="208764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4067280" y="20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341964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Esóf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3835440" y="442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Estôm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564000" y="5300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4788000" y="580536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Intestino Gro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4140360" y="6400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Â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Line 17"/>
          <p:cNvSpPr/>
          <p:nvPr/>
        </p:nvSpPr>
        <p:spPr>
          <a:xfrm>
            <a:off x="1763640" y="2637000"/>
            <a:ext cx="1728720" cy="0"/>
          </a:xfrm>
          <a:prstGeom prst="line">
            <a:avLst/>
          </a:prstGeom>
          <a:ln cap="sq" w="50760">
            <a:solidFill>
              <a:srgbClr val="ff0066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3492360" y="23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Fari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98D1-5887-453D-BB4F-CDF7D2AB23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9900"/>
                </a:solidFill>
                <a:latin typeface="Tahoma"/>
              </a:rPr>
              <a:t>Glândulas Anexas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2" name="Picture 21" descr="digestivo_2"/>
          <p:cNvPicPr/>
          <p:nvPr/>
        </p:nvPicPr>
        <p:blipFill>
          <a:blip r:embed="rId1"/>
          <a:stretch/>
        </p:blipFill>
        <p:spPr>
          <a:xfrm>
            <a:off x="0" y="1413000"/>
            <a:ext cx="3500280" cy="5445000"/>
          </a:xfrm>
          <a:prstGeom prst="rect">
            <a:avLst/>
          </a:prstGeom>
          <a:ln w="0">
            <a:noFill/>
          </a:ln>
        </p:spPr>
      </p:pic>
      <p:sp>
        <p:nvSpPr>
          <p:cNvPr id="533" name="Line 22"/>
          <p:cNvSpPr/>
          <p:nvPr/>
        </p:nvSpPr>
        <p:spPr>
          <a:xfrm>
            <a:off x="2340000" y="2565360"/>
            <a:ext cx="1728720" cy="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Line 23"/>
          <p:cNvSpPr/>
          <p:nvPr/>
        </p:nvSpPr>
        <p:spPr>
          <a:xfrm>
            <a:off x="1476360" y="4508640"/>
            <a:ext cx="2519280" cy="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24"/>
          <p:cNvSpPr/>
          <p:nvPr/>
        </p:nvSpPr>
        <p:spPr>
          <a:xfrm>
            <a:off x="1692360" y="5157720"/>
            <a:ext cx="2735280" cy="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25"/>
          <p:cNvSpPr/>
          <p:nvPr/>
        </p:nvSpPr>
        <p:spPr>
          <a:xfrm>
            <a:off x="4067280" y="1916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Glândulas saliv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26"/>
          <p:cNvSpPr/>
          <p:nvPr/>
        </p:nvSpPr>
        <p:spPr>
          <a:xfrm>
            <a:off x="4067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Fí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27"/>
          <p:cNvSpPr/>
          <p:nvPr/>
        </p:nvSpPr>
        <p:spPr>
          <a:xfrm>
            <a:off x="4500720" y="494172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Pânc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29"/>
          <p:cNvSpPr/>
          <p:nvPr/>
        </p:nvSpPr>
        <p:spPr>
          <a:xfrm>
            <a:off x="1763640" y="2276640"/>
            <a:ext cx="2232000" cy="0"/>
          </a:xfrm>
          <a:prstGeom prst="line">
            <a:avLst/>
          </a:prstGeom>
          <a:ln cap="sq" w="50760">
            <a:solidFill>
              <a:srgbClr val="ff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5509-426E-4FDA-8A0A-20C32024909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Transformações dos alimentos no sistema digestivo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79280" y="1844640"/>
            <a:ext cx="8640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urante a digestão, os alimentos sofrem dois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transformaçõ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formações mecânicas</a:t>
            </a: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– Resultam dos movimentos do tubo digestivo (mastigação e movimentos peristáltico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formações químicas</a:t>
            </a:r>
            <a:r>
              <a:rPr b="0" lang="pt-P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– Resultam da atuação das substâncias produzidas pelas glândulas anexas (sucos digestivos) do sistema diges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335F-0C77-4FCA-BFF5-78363DDE57D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Que transformações acontecem na boca?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5" name="Picture 8" descr="digestivo_2"/>
          <p:cNvPicPr/>
          <p:nvPr/>
        </p:nvPicPr>
        <p:blipFill>
          <a:blip r:embed="rId1"/>
          <a:stretch/>
        </p:blipFill>
        <p:spPr>
          <a:xfrm>
            <a:off x="0" y="1413000"/>
            <a:ext cx="3500280" cy="544500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27"/>
          <p:cNvGrpSpPr/>
          <p:nvPr/>
        </p:nvGrpSpPr>
        <p:grpSpPr>
          <a:xfrm>
            <a:off x="1692360" y="2276640"/>
            <a:ext cx="2016000" cy="504720"/>
            <a:chOff x="1692360" y="2276640"/>
            <a:chExt cx="2016000" cy="504720"/>
          </a:xfrm>
        </p:grpSpPr>
        <p:sp>
          <p:nvSpPr>
            <p:cNvPr id="547" name="Line 10"/>
            <p:cNvSpPr/>
            <p:nvPr/>
          </p:nvSpPr>
          <p:spPr>
            <a:xfrm>
              <a:off x="1692360" y="2276640"/>
              <a:ext cx="142920" cy="5047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1"/>
            <p:cNvSpPr/>
            <p:nvPr/>
          </p:nvSpPr>
          <p:spPr>
            <a:xfrm flipV="1">
              <a:off x="1835280" y="2349360"/>
              <a:ext cx="1873080" cy="4320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9" name="Line 12"/>
          <p:cNvSpPr/>
          <p:nvPr/>
        </p:nvSpPr>
        <p:spPr>
          <a:xfrm flipV="1">
            <a:off x="2340000" y="2349360"/>
            <a:ext cx="1440000" cy="21600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13"/>
          <p:cNvSpPr/>
          <p:nvPr/>
        </p:nvSpPr>
        <p:spPr>
          <a:xfrm>
            <a:off x="3870360" y="204804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ção química das glândulas saliv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4427640" y="242100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3635280" y="299736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uma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ação mecânica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dos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dentes e da lín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19"/>
          <p:cNvSpPr/>
          <p:nvPr/>
        </p:nvSpPr>
        <p:spPr>
          <a:xfrm>
            <a:off x="3995640" y="3716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(mastiga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5940360" y="436572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4067280" y="558972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00"/>
                </a:solidFill>
                <a:latin typeface="Times New Roman"/>
              </a:rPr>
              <a:t>Bolo Aliment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Oval 24"/>
          <p:cNvSpPr/>
          <p:nvPr/>
        </p:nvSpPr>
        <p:spPr>
          <a:xfrm>
            <a:off x="2052720" y="2276640"/>
            <a:ext cx="288720" cy="727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0349-67A2-4E38-A3E4-BA4971773D9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Para onde vai o bolo alimentar?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3924360" y="21337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lo alimentar</a:t>
            </a:r>
            <a:r>
              <a:rPr b="0" lang="pt-P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é empurrado pela língua contra a parte superior da boca, passando para a faringe. Inicia-se a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glutição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6156360" y="3716280"/>
            <a:ext cx="433440" cy="792360"/>
          </a:xfrm>
          <a:prstGeom prst="downArrow">
            <a:avLst>
              <a:gd name="adj1" fmla="val 50000"/>
              <a:gd name="adj2" fmla="val 45702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4464000" y="4437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epiglote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fecha a entrada do ar deixando passar o bolo aliment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6227640" y="5445000"/>
            <a:ext cx="433440" cy="792360"/>
          </a:xfrm>
          <a:prstGeom prst="downArrow">
            <a:avLst>
              <a:gd name="adj1" fmla="val 50000"/>
              <a:gd name="adj2" fmla="val 45702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5003640" y="62784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óf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13" descr="Deglucion"/>
          <p:cNvPicPr/>
          <p:nvPr/>
        </p:nvPicPr>
        <p:blipFill>
          <a:blip r:embed="rId1"/>
          <a:stretch/>
        </p:blipFill>
        <p:spPr>
          <a:xfrm>
            <a:off x="0" y="1773360"/>
            <a:ext cx="37800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Marcador de Posição do Número do Diapositivo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EAA1-0762-4217-868A-0C354C90A92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33"/>
                </a:solidFill>
                <a:latin typeface="Tahoma"/>
              </a:rPr>
              <a:t>No esófago…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4500720" y="2502000"/>
            <a:ext cx="4608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bolo alimentar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 desce até ao estômago com a ajuda dos </a:t>
            </a:r>
            <a:r>
              <a:rPr b="1" lang="pt-PT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vimentos peristálticos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(ação mecâ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7" descr="esófago_2"/>
          <p:cNvPicPr/>
          <p:nvPr/>
        </p:nvPicPr>
        <p:blipFill>
          <a:blip r:embed="rId1"/>
          <a:stretch/>
        </p:blipFill>
        <p:spPr>
          <a:xfrm>
            <a:off x="250920" y="1773360"/>
            <a:ext cx="2786040" cy="4851360"/>
          </a:xfrm>
          <a:prstGeom prst="rect">
            <a:avLst/>
          </a:prstGeom>
          <a:ln w="0">
            <a:noFill/>
          </a:ln>
        </p:spPr>
      </p:pic>
      <p:sp>
        <p:nvSpPr>
          <p:cNvPr id="569" name="Line 5"/>
          <p:cNvSpPr/>
          <p:nvPr/>
        </p:nvSpPr>
        <p:spPr>
          <a:xfrm>
            <a:off x="2484360" y="4076640"/>
            <a:ext cx="1871640" cy="0"/>
          </a:xfrm>
          <a:prstGeom prst="line">
            <a:avLst/>
          </a:prstGeom>
          <a:ln cap="sq" w="507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20:43:58Z</dcterms:created>
  <dc:creator>Mariana e Constança</dc:creator>
  <dc:description/>
  <cp:keywords/>
  <dc:language>en-US</dc:language>
  <cp:lastModifiedBy>MMCasanoca</cp:lastModifiedBy>
  <dcterms:modified xsi:type="dcterms:W3CDTF">2012-06-30T17:04:20Z</dcterms:modified>
  <cp:revision>74</cp:revision>
  <dc:subject/>
  <dc:title>O Sistema Digestivo no Hom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92070</vt:lpwstr>
  </property>
</Properties>
</file>